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5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51720" y="626760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BB17-8FAD-45BE-B28A-A5306D30E18F}" type="slidenum">
              <a:rPr b="1" lang="en-US" sz="1600" spc="-1" strike="noStrike">
                <a:solidFill>
                  <a:srgbClr val="777777"/>
                </a:solidFill>
                <a:latin typeface="Myriad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2210040" cy="171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666880"/>
            <a:ext cx="8001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666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276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743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Myriad Roman"/>
              </a:rPr>
              <a:t>RESERVE BANK OF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06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Myriad Roman"/>
              </a:rPr>
              <a:t>PDO – NDS COMPUTE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11956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yriad Roman"/>
              </a:rPr>
              <a:t>Installation Manual-Client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7: InputFile selected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1886040"/>
          <a:ext cx="731520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86040"/>
                    <a:ext cx="73152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8: Choose Program Gro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1828800"/>
          <a:ext cx="746748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4674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1676520"/>
            <a:ext cx="7925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9: Choose Program Gro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752480"/>
          <a:ext cx="7772400" cy="43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7240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0: Setup Continues 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1676520"/>
          <a:ext cx="762012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62012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1: Setting Registry Valu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2: Setup Continues 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2971800"/>
          <a:ext cx="769644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1800"/>
                    <a:ext cx="76964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3: Setup Completed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66680" y="1714680"/>
          <a:ext cx="7239240" cy="43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14680"/>
                    <a:ext cx="7239240" cy="43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14:Export RBIPDONDS COM+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: On Server machine: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ontrol Panel\Administrative Tools\Component Services\Computers\My Computer\COM+ Applications\RBIPDONDS Componen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10666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5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752480"/>
          <a:ext cx="80010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0010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6: Select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1752480"/>
          <a:ext cx="80010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80010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CONTEN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TEPS OF INSTALL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6553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7: Export starts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1676520"/>
          <a:ext cx="76964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6964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5410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8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676520"/>
            <a:ext cx="8001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pecify the path for storing generated ex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C:\RBIPDONDS.M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lect Application Proxy radio bu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fer next slide for the Screen Sho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4952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9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90720" y="1752480"/>
          <a:ext cx="71625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1625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0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14400" y="1676520"/>
          <a:ext cx="7391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7391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1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1676520"/>
          <a:ext cx="77724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2:Location of msi and cab fil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: On Server machine: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C:\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124080" y="3809880"/>
          <a:ext cx="205740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809880"/>
                    <a:ext cx="20574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066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3:Copy msi and cab fil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839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: On Client machine: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:\Program Files\RBIPDONDSSetUp\ServerDll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90920" y="4038480"/>
          <a:ext cx="32763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4038480"/>
                    <a:ext cx="3276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4:Double click msi fil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2319480"/>
          <a:ext cx="817884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19480"/>
                    <a:ext cx="817884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5:Setting Component Properti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: On Client machine: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ontrol Panel\Administrative Tools\Component Services\Computers\My Computer\COM+ Applications\RBIPDONDS Componen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6: Right Click Component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5800" y="2000160"/>
          <a:ext cx="792468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00160"/>
                    <a:ext cx="79246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3276720" y="144792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lect “Propert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PDONDS Client Setup 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Following slides guide through the installation procedur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27:“Component Properties” window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47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647800" y="1752480"/>
            <a:ext cx="3848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28: Select “Activation” tab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7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2424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exp9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9:Remote Server Nam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Under Remote Server Name: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Enter fully qualified name of the Member Server and click “OK”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This name can be obtained by: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Right click “My Computer” on Desktop on Server Machine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lect “Properties”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lect “Network Identification” tab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ull Computer Name” displays the name to be entered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0:Full Computer Nam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81080" y="1676520"/>
          <a:ext cx="46483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76520"/>
                    <a:ext cx="4648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1: “Activation” tab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771560"/>
          <a:ext cx="586728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71560"/>
                    <a:ext cx="58672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2: Access PDONDS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886040"/>
          <a:ext cx="685800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86040"/>
                    <a:ext cx="68580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3: Login to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666880" y="2590920"/>
          <a:ext cx="41148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4114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4: PDONDS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1676520"/>
          <a:ext cx="723888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2388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: 1 Generating Input Fil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Input file is already generated using GenerateInputs.exe during PDONDS Server installation.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Location of Input file: Server Machine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e same input file should be used for PDONDS Client installation.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Location of setup.ex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tup fold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: Run RBI PDONDS Set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9880" y="3657600"/>
          <a:ext cx="1371600" cy="13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657600"/>
                    <a:ext cx="137160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66680" y="1828800"/>
          <a:ext cx="731520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: Setup star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066680" y="1752480"/>
          <a:ext cx="72392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72392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4: Click “OK”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5: Select Client Set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6680" y="2133720"/>
          <a:ext cx="716292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1629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6: Input File Lo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16002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Click “…” to select Inp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66680" y="2133720"/>
          <a:ext cx="716292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1629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>Dinanath Kholkar</dc:creator>
  <dc:description/>
  <dc:language>en-US</dc:language>
  <cp:lastModifiedBy>Administartor</cp:lastModifiedBy>
  <cp:lastPrinted>2001-09-06T04:03:13Z</cp:lastPrinted>
  <dcterms:modified xsi:type="dcterms:W3CDTF">2005-03-28T09:06:32Z</dcterms:modified>
  <cp:revision>495</cp:revision>
  <dc:subject/>
  <dc:title>Software Project Management</dc:title>
</cp:coreProperties>
</file>